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DED-AACF-423B-8558-628535D5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744-4F69-4D4F-838D-4EAF13FF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C70-9182-48A5-96B3-31363397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41F-FABA-41EB-9248-95FFA0CC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941-603C-451E-AE59-800AB9BB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62E-9714-44D3-807A-049171B6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E03-4834-4F53-8A96-27E15DA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69C-BB88-4F9E-B658-307D0A9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710-6296-4AA4-9D94-C5CBE7F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A62-7BBA-4687-A64A-14A576B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1A8-3EA5-4834-895B-B0C8BB0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471-90EA-4BEA-9084-B2EBAEF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9D5-1582-4C08-8BD5-B0D044A8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nombres natur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9 = neu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0 = d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1 = on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2 = dou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3 = tre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4 = quator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5 = quin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6 = se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7 = dix-sep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8 = dix-h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ic Sans MS"/>
              </a:rPr>
              <a:t>1 =  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9 = dix-neu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20 = ving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21 = vingt et 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22 = vingt-d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30 = tr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31 = trente et 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32 = trente-d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Comic Sans MS"/>
              </a:rPr>
              <a:t>40 = quara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41 = quarante et 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42 = quarante-d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2 =  d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50 = cinqua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60 = soixa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70 = soixante-d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80= quatre-ving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90= quatre vingt-d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00 = c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00"/>
                </a:solidFill>
                <a:latin typeface="Comic Sans MS"/>
              </a:rPr>
              <a:t>101 = cent 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500 = cinq 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1000= mil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3 = tro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4 = qua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5 = cin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6 = s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7 = sep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Comic Sans MS"/>
              </a:rPr>
              <a:t>8 = h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4:54:46Z</dcterms:created>
  <dc:creator>nbdoe</dc:creator>
  <dc:description/>
  <dc:language>en-US</dc:language>
  <cp:lastModifiedBy>nbdoe</cp:lastModifiedBy>
  <dcterms:modified xsi:type="dcterms:W3CDTF">2008-09-04T14:32:50Z</dcterms:modified>
  <cp:revision>5</cp:revision>
  <dc:subject/>
  <dc:title>Les nombres naturels</dc:title>
</cp:coreProperties>
</file>